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3B9D-95CE-4791-9471-0CE25AFB5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F897-EBAD-4EAD-9204-9B8BFD96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F980-9F4F-4B75-9D1B-5E78D87CD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6E3B-469A-47A8-B8C7-0A186D8BB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F85F-3866-4A1F-B6F2-64E3C938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9E88-37B6-4173-BF97-74D5E750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13A6-7B09-4FFE-B643-956DFF48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668B-3856-4179-A590-C1846FAA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FC02-A53D-43C0-8A22-884BE8D3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27E8-1DA7-4D09-B225-C777FEE4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934F-15ED-41ED-BFEE-679CEF66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8151-1033-4A2C-894D-ED0F5007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32D1-DCE6-4AA0-BD7C-80A375C45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Haettenschweiler"/>
              </a:rPr>
              <a:t>Elle Descend de la Montagn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04920" y="2362320"/>
          <a:ext cx="8534160" cy="33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362320"/>
                    <a:ext cx="853416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Haettenschweiler"/>
              </a:rPr>
              <a:t>Elle descend de la montagne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Haettenschweiler"/>
              </a:rPr>
              <a:t>à chev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09680" y="2057400"/>
            <a:ext cx="5010120" cy="4351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rot="18752400">
            <a:off x="5943600" y="4723920"/>
            <a:ext cx="1523880" cy="1828800"/>
          </a:xfrm>
          <a:prstGeom prst="downArrow">
            <a:avLst>
              <a:gd name="adj1" fmla="val 50000"/>
              <a:gd name="adj2" fmla="val 300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Haettenschweiler"/>
              </a:rPr>
              <a:t>Chantant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Haettenschweiler"/>
              </a:rPr>
              <a:t>     tai yai youpi youpi yai  (2 fois)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Haettenschweiler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Haettenschweiler"/>
              </a:rPr>
              <a:t>     Chantant tai yai youpi  (2 fois) 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Haettenschweiler"/>
              </a:rPr>
              <a:t> Chantant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Haettenschweiler"/>
              </a:rPr>
              <a:t>tai yai youpi youpi yai</a:t>
            </a:r>
            <a:r>
              <a:rPr b="0" lang="en-US" sz="6600" spc="-1" strike="noStrike">
                <a:solidFill>
                  <a:srgbClr val="000000"/>
                </a:solidFill>
                <a:latin typeface="Haettenschweiler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5715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Haettenschweiler"/>
              </a:rPr>
              <a:t>Elle rencontre 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Haettenschweiler"/>
              </a:rPr>
              <a:t>son grand-père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Haettenschweiler"/>
              </a:rPr>
              <a:t>en descenda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581280" y="1219320"/>
          <a:ext cx="6248520" cy="558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1219320"/>
                    <a:ext cx="624852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99072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Haettenschweiler"/>
              </a:rPr>
              <a:t>Elle embrasse 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Haettenschweiler"/>
              </a:rPr>
              <a:t>son grand-père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Haettenschweiler"/>
              </a:rPr>
              <a:t>quand elle desce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429000" y="3184560"/>
          <a:ext cx="5715000" cy="367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3184560"/>
                    <a:ext cx="571500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324480" y="4572000"/>
            <a:ext cx="129564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248520" y="3505320"/>
            <a:ext cx="12952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99072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Haettenschweiler"/>
              </a:rPr>
              <a:t>Je voudrais être 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Haettenschweiler"/>
              </a:rPr>
              <a:t>son grand-père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Haettenschweiler"/>
              </a:rPr>
              <a:t>en descenda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562720" y="2666880"/>
          <a:ext cx="2390760" cy="333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62720" y="2666880"/>
                    <a:ext cx="239076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14:52:18Z</dcterms:created>
  <dc:creator>SDW</dc:creator>
  <dc:description/>
  <dc:language>en-US</dc:language>
  <cp:lastModifiedBy>SDW</cp:lastModifiedBy>
  <dcterms:modified xsi:type="dcterms:W3CDTF">2007-10-23T18:32:08Z</dcterms:modified>
  <cp:revision>5</cp:revision>
  <dc:subject/>
  <dc:title>Elle Descend de la Montag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11448145</vt:r8>
  </property>
  <property fmtid="{D5CDD505-2E9C-101B-9397-08002B2CF9AE}" pid="3" name="_AuthorEmail">
    <vt:lpwstr>dbowewie@waukesha.k12.wi.us</vt:lpwstr>
  </property>
  <property fmtid="{D5CDD505-2E9C-101B-9397-08002B2CF9AE}" pid="4" name="_AuthorEmailDisplayName">
    <vt:lpwstr>Bowe-Wielgus, Deborah</vt:lpwstr>
  </property>
  <property fmtid="{D5CDD505-2E9C-101B-9397-08002B2CF9AE}" pid="5" name="_EmailSubject">
    <vt:lpwstr>STuff</vt:lpwstr>
  </property>
  <property fmtid="{D5CDD505-2E9C-101B-9397-08002B2CF9AE}" pid="6" name="_ReviewingToolsShownOnce">
    <vt:lpwstr/>
  </property>
</Properties>
</file>